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7028-8733-4959-92BC-CDEF97C28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ty du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” documentation is undefined—value judgement, implies that it could also be “bad” in a different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good product needs no documentation, perhaps good documentation needs no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875-594E-4301-88DF-3A55C244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5B3-17AB-49F0-81F8-41F2A476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5F9-83E0-4011-B591-766DCC0E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DB9-285C-4751-AD78-0183E230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422-28EE-450E-B9EC-8110A14C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A09-D879-455B-A6E6-D12B64C3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3D0-8219-4FD1-81EB-F9527052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0A1-86E0-4504-BE74-851982BE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8A5-5C57-4F15-938B-7E93331B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2E4-233A-4CAE-8537-8193622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332-C0FE-4341-A62F-65CF173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AD7-3B38-44BC-93FE-B6D1DE0C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D6CB-20B7-477C-A9F6-C53DE6C5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jefro@jefro.net" TargetMode="External"/><Relationship Id="rId2" Type="http://schemas.openxmlformats.org/officeDocument/2006/relationships/hyperlink" Target="http://www.jefro.net/" TargetMode="External"/><Relationship Id="rId3" Type="http://schemas.openxmlformats.org/officeDocument/2006/relationships/hyperlink" Target="http://www.jefro.net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aur"/>
              </a:rPr>
              <a:t>Effectively Managing Documentation 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for Embedded Linux™ Projects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029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076640" y="3809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24440" y="5192640"/>
            <a:ext cx="47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Jeffrey Osier-Mix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om the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developer’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perspective, solid 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ements relationship with th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Establishes profess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Reduces fear, uncertainty, and dou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gments their own internal resour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(engineering, QA, FAE, marketing, s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kes their jobs eas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aster time to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w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higher satisfaction wit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educes suppor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rom the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end user’s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point of view, solid docu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ducates and involves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hows the product’s features in clear detail—if this can’t be easily done, the product itself is too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vides a detailed, organized reference so that all details of the product can be instantly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vides troubleshooting, the first line of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om the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roduct’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point of view, solid 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dds value to th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vides a glimmer of hope that education may prevail before trial-and-error set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s the essential element to convert a bench </a:t>
            </a:r>
            <a:r>
              <a:rPr b="0" i="1" lang="en-US" sz="2800" spc="-1" strike="noStrike">
                <a:solidFill>
                  <a:srgbClr val="000000"/>
                </a:solidFill>
                <a:latin typeface="Centaur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into a customer </a:t>
            </a:r>
            <a:r>
              <a:rPr b="0" i="1" lang="en-US" sz="2800" spc="-1" strike="noStrike">
                <a:solidFill>
                  <a:srgbClr val="000000"/>
                </a:solidFill>
                <a:latin typeface="Centaur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–a process called produc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esn’t allow cleverness go unnoti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Describe and explain the product in ever finer detail, otherwi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Useful features can go unnoticed in favor of the defaul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om the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internal folk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’ point of view, good 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vides a resource for the entire customer relationsh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e-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Profession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vides a basis for intern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vides a valuab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rom an open-source point of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llaboration and cooperation are key to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llaboration is made possible by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rom a consumer electronics point of vi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 product can not be considered “marketable” without documentation describing it completely and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four critical elements of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Four Critica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 order by increasing level of det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asks &amp;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roublesh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Big Picture:  35,000 foot high-resolution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scribe the feature, construct, API, entire platform, etc. with the reader i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Keep cross-references to a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ell” rather than “sh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Keep tone professional, not convers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ep by step examples: 5,000 foo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ake common (and uncommon) tasks one at a time in a logical order, with running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how” rather than “tel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eed on previous tasks and examples, but try to make each one self-co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sistency is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Keep cross-references to a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Organized menu showing everything that’s available:  street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scribe in as much detail as is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Leave no stone un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efer back to previous sections for conceptual descriptions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Keep cross-references to a max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o A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echnical writer, project manager,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Open sourc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mbedded and bare-met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nterprise softwar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sumer electronic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ttp://www.jefro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Trouble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nswering questions:  through the looking glass and looking back—the reader’s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bably the most important and most-read section, and least often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tent is King, but understanding the reader is the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isplay a sympathy for the reader and a willingness to show and teach—to be an advocate for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The Four-Element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ur-elem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me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ecur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Good exampl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ontaVista’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evRock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oc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895480" y="1600200"/>
          <a:ext cx="5791320" cy="4525920"/>
        </p:xfrm>
        <a:graphic>
          <a:graphicData uri="http://schemas.openxmlformats.org/drawingml/2006/table">
            <a:tbl>
              <a:tblPr/>
              <a:tblGrid>
                <a:gridCol w="1158840"/>
                <a:gridCol w="1157400"/>
                <a:gridCol w="1158840"/>
                <a:gridCol w="1157400"/>
                <a:gridCol w="1158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oncep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asks &amp; 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rouble-shoo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Doc set in gen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Overview &amp; Sp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og. Gu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uto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PI Guide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Glob. 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earch fu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FAQ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K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ach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efatory chap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How-To” chap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Append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Optional trouble-shooting se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ach chap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Over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ask and example se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oss-refs to reference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oss-refs to related 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ach individual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roduce topic, task, 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tep by step instru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oss-refs to reference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ross-refs to related 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Meeting expectations of r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Meeting Reader’s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o are the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artners—product manufacturers or others who turn your project into a product to re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velopers—organizations or people who use your project as basis for creating products of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nd-users—people who finally use the end result of the abo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ternal—people in your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Meeting Reader’s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are their expectations? Interview? Survey? Educated gues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ducate yourself with research—become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nd out what they need to know concep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nd out what tasks they need to accomplish and make sure they are adequately described in your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ind out where they can look 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o are you, anyw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r this pres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echnical writers and 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ject manag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Engineers stuck with writ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om have I mis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And what do you w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Goal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four critical elements of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eeting expectations of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he importance of effective projec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do you want to know that we haven’t covered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effecti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projec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Effective Project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cumentation as a product is fundamentally different fro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idactic rather than decla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cumentation project management is fundamentally similar to software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evelopment, production, testing, deployment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ocumentation is fundamentally cross-fun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Effective Project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stablish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efine and staff roles rather tha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Identify tools, SMEs,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lan: begin with the end in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Get everyone’s input: marketing, sales, support, engineering, professional services, potential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im for synergy with partners, developers, en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Follow up, but don’t h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o Are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echnical writers and ed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ject managers for open-sourc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ject managers for Linux-based proprietary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ngineers stuck with writing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en-year-old robotics enthusi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Questions for managers to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Nature of the pro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s this an open-source project, or a proprietary project built on open-source components and/o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ardware, software, or device containing b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ere and for whom does this project add 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Questions for managers to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Let the money be your guide, let the customer be your rud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o is the customer base?  Partners, developers, end-u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 which market niche?  How does the market set expec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o is the expected audience?  Are they different from the customer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Questions for managers to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roject management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me grow the docs with available resources, or seek professional wri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f home grown, how to minimize costs and development downtime while maximizing 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f professional, contract or h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kind of fashions? Why not “trend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Trends” indicates business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But you just told me to ignore fashions, didn’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any come from open sourc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to use fashions effectively in open-sou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Emphasize developer participation &amp; cooperation rather than secrecy and direct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ollow fashions that increase value, ignore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Remember that content is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olitical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tent Delivery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our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ylistic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Political Direction—Toward Open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does the open-source philosophy affect documentation, and CE products in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Open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Very confusing for historically proprietary markets such as consumer electronics &amp; tele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Content Delivery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Open SDKs and developer port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Blogs and RSS f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eveloper for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AQ and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ikis and public bug track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ublic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Direct feedback to developers and end-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ite papers, articles, technical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Sour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earchable HTML (printable PDF  is </a:t>
            </a:r>
            <a:r>
              <a:rPr b="0" i="1" lang="en-US" sz="3200" spc="-1" strike="noStrike">
                <a:solidFill>
                  <a:srgbClr val="000000"/>
                </a:solidFill>
                <a:latin typeface="Centaur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early 2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tructured, open format—XML in its many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ource-generated docs (doxygen, javad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tent managem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Bug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Stylistic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inimalism—counteracting the “dummies” trends and showing respect for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Conversational tone vs professional tone, both in vogue in different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riting for non-native English speakers, writing for translation and loc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ictures—images, line drawings, screenshots, etc. can convey meaning beyond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Goals of thi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four critical elements of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eeting expectations of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importance of effective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at about t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ols don’t matter, content i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asy to bog down believing one tool is sup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ny document can be written with any decent set of writing tools.  Pick a good one and ge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void “tool fashion”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aving money on tools is no more effective in software development than it is in hous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at about too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ools matter a little bit, because timing is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A known tool beats a new one when time i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riting tools should be a very small percentage of the project’s budget, but time and labor can be a very large percentage with the wro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Using proprietary tools in an open-source project can </a:t>
            </a:r>
            <a:r>
              <a:rPr b="0" i="1" lang="en-US" sz="3200" spc="-1" strike="noStrike">
                <a:solidFill>
                  <a:srgbClr val="000000"/>
                </a:solidFill>
                <a:latin typeface="Centaur"/>
              </a:rPr>
              <a:t>sometimes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lead to problems down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f a tool makes the job harder, uglier, longer, or less future-proof, replac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Solid Documen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713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oncep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asks &amp; Examp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Re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rouble-shoo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artn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pec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Low-level guides Good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ivate API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ource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hared wikis, white pap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Develop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Conceptual over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rogramming guides, good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ublic API documents on a public por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Blogs, forums, white pap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End-Us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White pap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tep-by-step instructions with pi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Good ind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earchable do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FAQs, Knowledge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nal Fol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nal wik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nal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nal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Public &amp; private API do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Source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aur"/>
                        </a:rPr>
                        <a:t>Internal KBs, searchable do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Review: Goals of thi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four critical elements of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Meeting expectations of r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The importance of effective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merging fash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How did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rey Osier-Mi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7 326 37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fro@jefro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jefro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2374920" cy="118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648320" y="990720"/>
            <a:ext cx="4178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at is docum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What you tell other people about your proj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 emphasize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solid 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rather than </a:t>
            </a:r>
            <a:r>
              <a:rPr b="1" lang="en-US" sz="3200" spc="-1" strike="noStrike">
                <a:solidFill>
                  <a:srgbClr val="000000"/>
                </a:solidFill>
                <a:latin typeface="Centaur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 docu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mplete and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ppropriate to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nswers the reader’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Spectrums of complexity, openness, and familiarity in presentation—always based on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at makes it soli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aur"/>
              </a:rPr>
              <a:t>Primary education &amp; training—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aur"/>
              </a:rPr>
              <a:t>Primary descriptions behavior and features—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aur"/>
              </a:rPr>
              <a:t>Primary definitive organized resource list—re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aur"/>
              </a:rPr>
              <a:t>Primary line of support—troubleshoo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(foreshadowing the four critical e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aur"/>
              </a:rPr>
              <a:t>Who are the read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Partners—product manufacturers or others who turn your project into a product to re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Developers—organizations or people who use your project as basis for creating products of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End-users—people who finally use the end result of the abo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aur"/>
              </a:rPr>
              <a:t>Internal folks—people in your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aur"/>
              </a:rPr>
              <a:t>The importance of soli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From a </a:t>
            </a:r>
            <a:r>
              <a:rPr b="1" lang="en-US" sz="2800" spc="-1" strike="noStrike">
                <a:solidFill>
                  <a:srgbClr val="000000"/>
                </a:solidFill>
                <a:latin typeface="Centaur"/>
              </a:rPr>
              <a:t>partner’s</a:t>
            </a: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 point of view, solid 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Conveys intent as well as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Shows a clear product developmen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Augments their own internal resour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(engineering, QA, FAE, marketing, sa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Makes their jobs eas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faster time to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low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a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aur"/>
              </a:rPr>
              <a:t>higher satisfaction with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a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aur"/>
              </a:rPr>
              <a:t>Provides a format for change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Lanning</cp:lastModifiedBy>
  <dcterms:modified xsi:type="dcterms:W3CDTF">2008-05-01T20:15:23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